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4.png" ContentType="image/png"/>
  <Override PartName="/ppt/media/image8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9E355-DC95-4B3F-9842-045F80EB6B8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29075-D22B-493B-A1CF-D46E3C37BC7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4EB35-5F48-4D8B-881D-07F4AB87AAB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0F3E1-0E2B-417D-9AC1-AB6C343F4A5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96DF-A826-4FEE-A073-350113FE0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74E4-2DF3-42EC-851A-F81001D95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510E07-E25A-485C-AFCC-6CA5E6706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BFEF87-7B25-4EB0-8507-378829FB5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B85A2C-7C6A-4294-ACAE-463163E5E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AC4B6F-1751-4C50-B777-BC232B909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484E0F-2E09-4F84-8048-00AF77BA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291992-2CEB-4C84-898D-CB5EA594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F4448A-211A-40DC-A310-244DC65CA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45BDFF-751C-414F-9AEC-A9A64F2AB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B821DE-133B-4164-9AFD-6ED3C29E1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E39E-FEB5-47A1-9CB4-D6DA196F4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295B-4926-47DC-BDB4-5D6D79F46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9EBE7-2371-4533-B563-BAB944B58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49083-283F-4FF7-A756-6119D3AC1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01A62-B4F0-4365-BD81-8A53AB497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72A61-C480-4065-B6A7-0709FF1D0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B307D-69C4-45BF-A43D-9EC7850C4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CD890-AFC3-4B43-87E8-22304A653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0E1C8-FFE3-4A15-B416-8C10D15C9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DD78-CAE8-419D-B8E0-D8583A1DE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DF378-1A5D-408B-8CF4-82CB23A12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01BFE-6B6E-4DAB-823B-5A31CF55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77C88-92C7-4674-B885-5FE61BCA6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44D4C-CEA9-4961-88C4-FEA66472B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0E344-D3DB-44CE-BCC3-6D3A6F6BF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3C6CC-D3ED-4936-9F20-68F20D8AB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736C3-865D-40C7-A8C0-03F71DD42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1B3F7-090B-4050-93DF-B1F8C98D6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BE9A7-5192-4986-9ADC-C423E9267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3F369-7B57-4BC8-B153-CD8C5194F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FD96-6A0C-4C3F-85D8-32B5A81D6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EEF4C-F496-47A0-A164-1D7CB8170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FB46C-19BF-49E6-AF7F-62CCE48D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962DB-C3D4-4DEB-ADC7-250A0070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712B8-FFB6-4928-A0B4-977ED1188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4D05D-12F5-4497-A053-BAF223B82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78EF2-9C88-4F58-903C-31626E8B4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8154C-BCD2-47FC-B0CF-5DA6E39EC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C83DC-73F9-4159-A4F1-C4B7533DD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3D9CF-AAFC-414A-BE4E-CFD1BB733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F17E6-FBB3-418E-B422-3182B668E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A616-632B-4AF5-80EC-EB838D6F5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A2022-1EE0-4D3E-AC0D-F6CF10948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54D3B-121A-4735-B1AB-DD40C5491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6DCDF-3A06-49E7-AE7E-7F56BC80F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4775A-7F7D-404E-8A35-C79C8AF26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2104F-03D6-44D1-AA17-BD45B2733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6F61F-3ADF-4E95-B28D-5264E98F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85F9D-EF72-4E58-B9F4-97AF5B494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ED5E3-9824-4E9E-BEF9-38CCEC13A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B7820-333C-45FA-87FA-BDCF6FA2D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D8E36-A732-4AE7-BEAA-2D87F1A0B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F6B4-3C8E-4F58-A3A3-C2D00EFE1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6A642D-1514-491A-BC8E-9B2AF2C96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C9454-CF1F-409C-9BE5-3B8951A8B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9912A-ADF7-407B-9DA6-11657B036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EF6F07-D5C9-46B5-843F-BFC1253D0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22993A-2504-451F-82EA-E60303C78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03025-CF91-4658-BFBF-6C36AD4B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F39150-CBE9-4AE9-AC97-E2CC3462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20147-AB93-45A4-A6C4-2FD8BEAF1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202F6B-92A3-4FA8-BB4E-A4690E7E4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AAAC1E-F983-48CD-BF02-62A5FC738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A1A2-D823-42E4-BC1F-29DC1270B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15E608-47BF-48F2-BAEC-2DD363A11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B0A3AF-2BC0-4E8E-873E-50819B311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9D70BB-13AF-480A-B75E-D0E9A5583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0C0383-FA9F-452F-A54A-549118B6E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CBAA8A-1D24-495F-B6F3-9B1A934C2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285719-C25A-4928-B7CE-C7BE8D910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A0A0A1-7EAF-48C7-87FF-508F7AA02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593A35-1D89-4E36-BEB6-21A3040C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8A01D1-6581-4368-88E1-89074D14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8CB225-E202-4318-BCB0-0D5F1D7F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065A-432E-49B1-901D-DFE50F8E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B47422-9777-4EEF-A4DA-6D2A3B8AE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493231-ADE4-486E-9778-833AC7060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89BD3-4263-4C80-A47A-BE0B4DB23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A1B102-7D59-415E-B8DF-720F737A7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157C29-F99E-4842-808B-F4A2AF468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D5B8E0-F834-4763-83CF-77CD8562F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01FA8B-DBCB-4442-86C6-FF31C65C3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5C1174-E24E-45E3-A80D-0ECA64599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D76BC-1354-40A4-8480-FAA7BA179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3852BD-4122-42FA-8B71-2A0299989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E383-9F3A-43C5-8FAE-964D46AB9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A9F1C4-FFED-466D-BEDA-9DA7C1DD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1BC9D2-16D7-4171-AD4D-22ECCC1B1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628549-9F5B-4924-95A0-3FBEEBD3A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7ED1A8-5F08-4AE4-81AD-D376D0750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0FEF51-B0D8-47DF-ADFF-24FC85767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452CFA-3BCA-4143-9FC8-C6DB3E8FB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7BC08B-02FA-42A1-BF5E-714D71270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2CB316-30A1-478C-91EE-39A764592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F2FC8E-A907-40AB-A512-299F07AA9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64ED14-9217-43B7-912F-BED63BF24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E6B5-116F-4E97-9BBA-2B4E4E1F3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D1673C-CF3C-446A-B926-A937257FC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F75114-50C6-4E7E-8CB2-DD3C6216B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87CD67-505E-40B6-A590-0C3A2956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2114DF-CF9D-4D88-A162-34AE13775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251C0C-DD1B-4264-AC1B-AE876F315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8040F-E712-44B8-8EC2-F8BC4FFF7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993708-E498-42FB-BC6B-43C346DC0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F816AA-ADB9-4852-8D20-B6F3E47F5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483FCF-ED9E-47C7-B3F9-82B8D6518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EB1A49-B627-4AF7-B536-97D1CCFF2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D50C7-DE71-417E-8AD7-74C77BC49A36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2D5B4-5779-44B7-B167-4AED4CF9102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4520" y="4952880"/>
              <a:ext cx="7449480" cy="48816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8160"/>
                <a:gd name="textAreaBottom" fmla="*/ 488520 h 48816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7640"/>
              <a:ext cx="9099720" cy="788760"/>
            </a:xfrm>
            <a:custGeom>
              <a:avLst/>
              <a:gdLst>
                <a:gd name="textAreaLeft" fmla="*/ 0 w 9099720"/>
                <a:gd name="textAreaRight" fmla="*/ 9100080 w 9099720"/>
                <a:gd name="textAreaTop" fmla="*/ 0 h 788760"/>
                <a:gd name="textAreaBottom" fmla="*/ 789120 h 78876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64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2CC12-A0A6-4A8E-8A30-CEBD2B561989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6F45E-8DBE-4847-85DF-77050C75F23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34FA2-1411-4C54-A58F-6E334C928C13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BADA1-FC0F-462B-B1F3-8DB44F6898C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C3D4D-94CA-4DF3-81CC-E4A91D9B824A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A26F2-AA05-4305-B254-7CE2BF70CC6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241AB-5615-48DF-82DE-D92E845EF278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78B9E-56D3-4DA9-808C-AAE20784524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098F3-B671-4547-B5EB-21D5B70148F9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FD913-1998-4484-9F39-4DD66D3D8DF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8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8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8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893D0-1918-49DA-940A-FEEA7C1C0298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63531-3698-4A2E-8858-FF0C99EB0275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CB395-DC8A-43CB-9E28-BA43DF048CF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70" name="Прямоугольный треугольник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71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73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74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5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00C3D-1A12-49AA-AB37-3DEC5D1A3C7A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464EF-40BC-406B-92CF-19D0F2F9371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pravo.ru/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Номер слайда 1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DF889-2A0E-4D32-98B1-8D411E901F69}" type="slidenum"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5" name="Заголовок 1" descr=""/>
          <p:cNvPicPr/>
          <p:nvPr/>
        </p:nvPicPr>
        <p:blipFill>
          <a:blip r:embed="rId1"/>
          <a:stretch/>
        </p:blipFill>
        <p:spPr>
          <a:xfrm>
            <a:off x="3382920" y="274680"/>
            <a:ext cx="5761080" cy="27064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3" descr="C:\Users\N.Asatova\Desktop\Герб цветной.png"/>
          <p:cNvPicPr/>
          <p:nvPr/>
        </p:nvPicPr>
        <p:blipFill>
          <a:blip r:embed="rId2"/>
          <a:stretch/>
        </p:blipFill>
        <p:spPr>
          <a:xfrm>
            <a:off x="0" y="115920"/>
            <a:ext cx="2727360" cy="3097080"/>
          </a:xfrm>
          <a:prstGeom prst="rect">
            <a:avLst/>
          </a:prstGeom>
          <a:ln w="0">
            <a:noFill/>
          </a:ln>
        </p:spPr>
      </p:pic>
      <p:sp>
        <p:nvSpPr>
          <p:cNvPr id="427" name="Прямоугольник 3"/>
          <p:cNvSpPr/>
          <p:nvPr/>
        </p:nvSpPr>
        <p:spPr>
          <a:xfrm>
            <a:off x="971640" y="3429000"/>
            <a:ext cx="79930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людение обязательных требований при осуществлении деятельности в области использования атомной энергии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8" name="Прямоугольник 2"/>
          <p:cNvSpPr/>
          <p:nvPr/>
        </p:nvSpPr>
        <p:spPr>
          <a:xfrm>
            <a:off x="2470320" y="595008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Екатеринбург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8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108000" y="188640"/>
            <a:ext cx="89280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476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щений и заявлений, которые могут являться основанием для проведения внеплановой проверки;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и проведения выездной проверки по факту установления признаков нарушения обязательных требований при проведении документарной проверки;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ия акта о невозможности проведения соответствующей проверки с указанием причин невозможности ее проведения в случае, если проведение плановой или внеплановой выездной проверки оказалось невозможным в связи с отсутствием руководителя или иного должностного лица юридического лица, либо в связи с фактическим неосуществлением деятельности юридическим лицом, либо в связи с иными действиями (бездействием) руководителя или иного должностного лица юридического лица, повлекшими невозможность проведения проверки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ей организации и проведения в 2016-2018 годах плановых проверок при осуществлении государственного контроля (надзора) и муниципального контроля в отношении субъектов малого предпринимательства, но следует обратить внимание на то, что положения статьи 26.1 Федерального закона № 294-ФЗ от 26.12.2008 при организации федерального государственного надзора в области использования атомной энергии не применяются.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ому, при планировании проверок Уральское МТУ про надзору за ЯРБ Ростехнадзора ориентируется не на категории малого или среднего бизнеса, а на потенциальную опасность объектов использования атомной энергии и выполняемых организациями работ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2" name="Номер слайда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A645E-2754-4AF9-9A6F-15A56048A0CC}" type="slidenum"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3" name=""/>
          <p:cNvGraphicFramePr/>
          <p:nvPr/>
        </p:nvGraphicFramePr>
        <p:xfrm>
          <a:off x="0" y="1071720"/>
          <a:ext cx="9144000" cy="5786280"/>
        </p:xfrm>
        <a:graphic>
          <a:graphicData uri="http://schemas.openxmlformats.org/drawingml/2006/table">
            <a:tbl>
              <a:tblPr/>
              <a:tblGrid>
                <a:gridCol w="8001000"/>
                <a:gridCol w="1143000"/>
              </a:tblGrid>
              <a:tr h="115704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П-009-17. Правила ядерной безопасности исследовательских реакторов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верждены приказом Ростехнадзора от 04.08.2017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295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f0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f0f8"/>
                    </a:solidFill>
                  </a:tcPr>
                </a:tc>
              </a:tr>
              <a:tr h="115740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П-098-17. Установки по производству плутоний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щего ядерного топлива. Требования безопасности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верждены приказом Ростехнадзора от 23 июня 2017 г.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217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f0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f0f8"/>
                    </a:solidFill>
                  </a:tcPr>
                </a:tc>
              </a:tr>
              <a:tr h="115740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П-099-17. Требования к составу и содержанию отчета по обоснованию безопасности пунктов хранения радиоактивных отходов.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верждены приказом Ростехнадзора от 23 июня 2017 г.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219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f0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f0f8"/>
                    </a:solidFill>
                  </a:tcPr>
                </a:tc>
              </a:tr>
              <a:tr h="115704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П-100-17. Требования к составу и содержанию отчета по обоснованию безопасности пунктов захоронения радиоактивных отходов. 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верждены приказом Ростехнадзора от 23 июня 2017 г.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218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f0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f0f8"/>
                    </a:solidFill>
                  </a:tcPr>
                </a:tc>
              </a:tr>
              <a:tr h="115740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П-057-17. Правила обеспечения безопасности при выводе из эксплуатации ядерных установок ядерного топливного цикла. 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верждены приказом Ростехнадзора от 14 июня 2017 г.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205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f0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f0f8"/>
                    </a:solidFill>
                  </a:tcPr>
                </a:tc>
              </a:tr>
            </a:tbl>
          </a:graphicData>
        </a:graphic>
      </p:graphicFrame>
      <p:sp>
        <p:nvSpPr>
          <p:cNvPr id="454" name="Номер слайда 6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6C55F-D880-4B0F-B669-40924691344A}" type="slidenum"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5" name="Заголовок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6" name=""/>
          <p:cNvGraphicFramePr/>
          <p:nvPr/>
        </p:nvGraphicFramePr>
        <p:xfrm>
          <a:off x="0" y="189000"/>
          <a:ext cx="9144000" cy="5348160"/>
        </p:xfrm>
        <a:graphic>
          <a:graphicData uri="http://schemas.openxmlformats.org/drawingml/2006/table">
            <a:tbl>
              <a:tblPr/>
              <a:tblGrid>
                <a:gridCol w="8001000"/>
                <a:gridCol w="1143000"/>
              </a:tblGrid>
              <a:tr h="86364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П-006-16. Требования к содержанию отчета по обоснованию безопасности блока атомной станции с реактором типа ВВЭР. 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верждены приказом Ростехнадзора от 13 февраля 2017 г.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5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9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9fc"/>
                    </a:solidFill>
                  </a:tcPr>
                </a:tc>
              </a:tr>
              <a:tr h="86364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П-028-16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а обеспечения безопасности при выводе из эксплуатации исследовательских ядерных установок. 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верждены приказом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технадзора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4 апреля 2017 г.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10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9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9fc"/>
                    </a:solidFill>
                  </a:tcPr>
                </a:tc>
              </a:tr>
              <a:tr h="86508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П-012-16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а обеспечения безопасности при выводе из эксплуатации блока атомной станции. 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верждены приказом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технадзора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0 января 2017 г.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9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9fc"/>
                    </a:solidFill>
                  </a:tcPr>
                </a:tc>
              </a:tr>
              <a:tr h="75384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П-053-16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а безопасности при транспортировании радиоактивных материалов. 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верждены приказом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технадзора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5 сентября 2016 г.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388.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9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9fc"/>
                    </a:solidFill>
                  </a:tcPr>
                </a:tc>
              </a:tr>
              <a:tr h="100188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П–102-17. Основные требования к обоснованию прочности внутрикорпусных устройств реакторов типа ВВЭ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верждены приказом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технадзора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05 октября 2017 г.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409.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9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9fc"/>
                    </a:solidFill>
                  </a:tcPr>
                </a:tc>
              </a:tr>
              <a:tr h="100008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П-103-17. Требования к обеспечению безопасности пунктов размещения особых радиоактивных отходов и пунктов консервации особых радиоактивных отход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верждены приказом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технадзора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0 октября 2017 г.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418.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9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9fc"/>
                    </a:solidFill>
                  </a:tcPr>
                </a:tc>
              </a:tr>
            </a:tbl>
          </a:graphicData>
        </a:graphic>
      </p:graphicFrame>
      <p:sp>
        <p:nvSpPr>
          <p:cNvPr id="457" name="Номер слайда 6"/>
          <p:cNvSpPr/>
          <p:nvPr/>
        </p:nvSpPr>
        <p:spPr>
          <a:xfrm>
            <a:off x="8748720" y="6492960"/>
            <a:ext cx="366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D204C-D096-40EE-BB68-9F36D52FE206}" type="slidenum"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TextBox 1"/>
          <p:cNvSpPr/>
          <p:nvPr/>
        </p:nvSpPr>
        <p:spPr>
          <a:xfrm>
            <a:off x="2562120" y="5799240"/>
            <a:ext cx="65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еречнем ФНП можно ознакомиться на Официальном интернет-портале правовой информации (</a:t>
            </a:r>
            <a:r>
              <a:rPr b="0" lang="en-US" sz="1800" spc="-1" strike="noStrike" u="sng">
                <a:solidFill>
                  <a:srgbClr val="ff8119"/>
                </a:solidFill>
                <a:uFillTx/>
                <a:latin typeface="Times New Roman"/>
                <a:ea typeface="Times New Roman"/>
                <a:hlinkClick r:id="rId1"/>
              </a:rPr>
              <a:t>www.pravo.gov.ru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ил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айте НТЦ ЯРБ Ростехнадзора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ecnrs.ru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0" y="11592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94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ом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17.01.2017 № 11 «О внесении изменений в приказы Федеральной службы по экологическому, технологическому и атомному надзору от 17 декабря 2015 г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52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т 18 января 2016 г. № 13 и от 24 февраля 2016 г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70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сены изменени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ледующие нормы и правил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сенные изменения касаются определения физико-механических характеристик материалов, численные значения которых должны отражаться в документах по стандартизации, а также качество и свойства основных материалов, сварочных и наплавочных материалов для изготовления оборудования и трубопроводов АЭУ должны удовлетворять требованиям документов по стандартизации, устанавливающие требования к продукции, предусмотренные Положением о стандартизации, утвержденным постановлением Правительства Российской Федерации от 12 июня 2016 г. № 669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0" name="Номер слайда 6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FA641-E8FF-4CEA-BD2D-396DBBD0D2D8}" type="slidenum"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461" name=""/>
          <p:cNvGraphicFramePr/>
          <p:nvPr/>
        </p:nvGraphicFramePr>
        <p:xfrm>
          <a:off x="-6480" y="1268280"/>
          <a:ext cx="9144000" cy="2957760"/>
        </p:xfrm>
        <a:graphic>
          <a:graphicData uri="http://schemas.openxmlformats.org/drawingml/2006/table">
            <a:tbl>
              <a:tblPr/>
              <a:tblGrid>
                <a:gridCol w="1285920"/>
                <a:gridCol w="7858080"/>
              </a:tblGrid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П-094-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е требования к обоснованию прочности и термомеханического поведения тепловыделяющих сборок и тепловыделяющих элементов в активной зоне водо-водяных энергетических реакторов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 утвержденные приказом Ростехнадзора от 18.01.2016 г.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13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П-010-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а устройства и эксплуатации локализующих систем безопасности атомных станций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утвержденные приказом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технадзора от 10 февраля 2017 г.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50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24.02.2016 г.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П-089-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а устройства и безопасной эксплуатации оборудования и трубопроводов атомных энергетических установок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утвержденные приказом  Ростехнадзора от 17 декабря 2015 г.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5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Номер слайда 7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A8AF8-DFC6-404D-B617-7019C3F9DD9E}" type="slidenum"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3" name="Заголовок 2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695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4" name=""/>
          <p:cNvGraphicFramePr/>
          <p:nvPr/>
        </p:nvGraphicFramePr>
        <p:xfrm>
          <a:off x="0" y="696960"/>
          <a:ext cx="9144000" cy="4027320"/>
        </p:xfrm>
        <a:graphic>
          <a:graphicData uri="http://schemas.openxmlformats.org/drawingml/2006/table">
            <a:tbl>
              <a:tblPr/>
              <a:tblGrid>
                <a:gridCol w="8172360"/>
                <a:gridCol w="971640"/>
              </a:tblGrid>
              <a:tr h="931680">
                <a:tc>
                  <a:txBody>
                    <a:bodyPr lIns="7200" rIns="7200" tIns="7200" bIns="72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Б-127-17. Состав и содержание программы радиационной защиты при транспортировании радиоактивных материалов. </a:t>
                      </a:r>
                      <a:br>
                        <a:rPr sz="1500"/>
                      </a:b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верждено приказом Ростехнадзора от 24 августа 2017 г. № 3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9fc"/>
                    </a:solidFill>
                  </a:tcPr>
                </a:tc>
                <a:tc>
                  <a:txBody>
                    <a:bodyPr lIns="7200" rIns="7200" tIns="7200" bIns="72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9fc"/>
                    </a:solidFill>
                  </a:tcPr>
                </a:tc>
              </a:tr>
              <a:tr h="936720">
                <a:tc>
                  <a:txBody>
                    <a:bodyPr lIns="7200" rIns="7200" tIns="7200" bIns="72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Б-126-17. Рекомендуемые методы расчета параметров, необходимых для разработки нормативов допустимых сбросов радиоактивных веществ в водные объекты. </a:t>
                      </a:r>
                      <a:br>
                        <a:rPr sz="1500"/>
                      </a:b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верждено приказом Ростехнадзора от 25 июля 2017 г. № 281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9fc"/>
                    </a:solidFill>
                  </a:tcPr>
                </a:tc>
                <a:tc>
                  <a:txBody>
                    <a:bodyPr lIns="7200" rIns="7200" tIns="7200" bIns="72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9fc"/>
                    </a:solidFill>
                  </a:tcPr>
                </a:tc>
              </a:tr>
              <a:tr h="1224000">
                <a:tc>
                  <a:txBody>
                    <a:bodyPr lIns="7200" rIns="7200" tIns="7200" bIns="72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Б-033-17. Рекомендации к составу и содержанию отчета по комплексному обследованию судов и других плавсредств с ядерными реакторами и судов атомного технологического обслуживания при продлении срока их эксплуатации. </a:t>
                      </a:r>
                      <a:br>
                        <a:rPr sz="1500"/>
                      </a:b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верждено приказом Ростехнадзора от 11 мая 2017 г. № 157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9fc"/>
                    </a:solidFill>
                  </a:tcPr>
                </a:tc>
                <a:tc>
                  <a:txBody>
                    <a:bodyPr lIns="7200" rIns="7200" tIns="7200" bIns="72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9fc"/>
                    </a:solidFill>
                  </a:tcPr>
                </a:tc>
              </a:tr>
              <a:tr h="934920">
                <a:tc>
                  <a:txBody>
                    <a:bodyPr lIns="7200" rIns="7200" tIns="7200" bIns="72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Б-125-17. Оценка взрывопожароопасности сорбционных систем при переработке отработавшего ядерного топлива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верждено приказом Ростехнадзора от 17 марта 2017 г. № 89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9fc"/>
                    </a:solidFill>
                  </a:tcPr>
                </a:tc>
                <a:tc>
                  <a:txBody>
                    <a:bodyPr lIns="7200" rIns="7200" tIns="7200" bIns="72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9f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65" name=""/>
          <p:cNvGraphicFramePr/>
          <p:nvPr/>
        </p:nvGraphicFramePr>
        <p:xfrm>
          <a:off x="0" y="4724280"/>
          <a:ext cx="9144000" cy="1657440"/>
        </p:xfrm>
        <a:graphic>
          <a:graphicData uri="http://schemas.openxmlformats.org/drawingml/2006/table">
            <a:tbl>
              <a:tblPr/>
              <a:tblGrid>
                <a:gridCol w="8172360"/>
                <a:gridCol w="971640"/>
              </a:tblGrid>
              <a:tr h="1657440">
                <a:tc>
                  <a:txBody>
                    <a:bodyPr lIns="7200" rIns="7200" tIns="7200" bIns="72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Б-118-17. Рекомендации по структуре и содержанию положения по учету и контролю ядерных материалов в организациях, осуществляющих обращение с ядерными материалами, и инструкции по учету и контролю ядерных материалов в зоне баланса материалов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верждено приказом Ростехнадзора от 27 февраля 2017 г. № 70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9fc"/>
                    </a:solidFill>
                  </a:tcPr>
                </a:tc>
                <a:tc>
                  <a:txBody>
                    <a:bodyPr lIns="7200" rIns="7200" tIns="7200" bIns="72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9fc"/>
                    </a:solidFill>
                  </a:tcPr>
                </a:tc>
              </a:tr>
            </a:tbl>
          </a:graphicData>
        </a:graphic>
      </p:graphicFrame>
      <p:sp>
        <p:nvSpPr>
          <p:cNvPr id="466" name="Номер слайда 7"/>
          <p:cNvSpPr/>
          <p:nvPr/>
        </p:nvSpPr>
        <p:spPr>
          <a:xfrm>
            <a:off x="8791560" y="6507000"/>
            <a:ext cx="366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7" name=""/>
          <p:cNvGraphicFramePr/>
          <p:nvPr/>
        </p:nvGraphicFramePr>
        <p:xfrm>
          <a:off x="0" y="6480"/>
          <a:ext cx="9144000" cy="6178320"/>
        </p:xfrm>
        <a:graphic>
          <a:graphicData uri="http://schemas.openxmlformats.org/drawingml/2006/table">
            <a:tbl>
              <a:tblPr/>
              <a:tblGrid>
                <a:gridCol w="8172360"/>
                <a:gridCol w="971640"/>
              </a:tblGrid>
              <a:tr h="1064520">
                <a:tc>
                  <a:txBody>
                    <a:bodyPr lIns="7200" rIns="7200" tIns="7200" bIns="72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Б-123-17. Основные рекомендации к разработке вероятностного анализа безопасности уровня 1 для блока атомной станции при исходных событиях, обусловленных сейсмическими воздействиями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верждено приказом Ростехнадзора от 1 февраля 2017 г. № 33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9fc"/>
                    </a:solidFill>
                  </a:tcPr>
                </a:tc>
                <a:tc>
                  <a:txBody>
                    <a:bodyPr lIns="7200" rIns="7200" tIns="7200" bIns="72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9fc"/>
                    </a:solidFill>
                  </a:tcPr>
                </a:tc>
              </a:tr>
              <a:tr h="802080">
                <a:tc>
                  <a:txBody>
                    <a:bodyPr lIns="7200" rIns="7200" tIns="7200" bIns="72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Б-116-17. Рекомендации к разработке вероятностного анализа безопасности для хранилищ отработавшего ядерного топлива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верждено приказом Ростехнадзора от 10 февраля 2017 г. № 51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9fc"/>
                    </a:solidFill>
                  </a:tcPr>
                </a:tc>
                <a:tc>
                  <a:txBody>
                    <a:bodyPr lIns="7200" rIns="7200" tIns="7200" bIns="72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9fc"/>
                    </a:solidFill>
                  </a:tcPr>
                </a:tc>
              </a:tr>
              <a:tr h="802080">
                <a:tc>
                  <a:txBody>
                    <a:bodyPr lIns="7200" rIns="7200" tIns="7200" bIns="72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Б-135-17. Рекомендации по методам и средствам контроля за выбросами радиоактивных веществ в атмосферный воздух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верждено приказом Ростехнадзора от 30 августа 2017 г. № 347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9fc"/>
                    </a:solidFill>
                  </a:tcPr>
                </a:tc>
                <a:tc>
                  <a:txBody>
                    <a:bodyPr lIns="7200" rIns="7200" tIns="7200" bIns="72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9fc"/>
                    </a:solidFill>
                  </a:tcPr>
                </a:tc>
              </a:tr>
              <a:tr h="878400">
                <a:tc>
                  <a:txBody>
                    <a:bodyPr lIns="7200" rIns="7200" tIns="7200" bIns="72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Б-119-17. Рекомендации по проведению административного контроля в рамках системы учета и контроля радиоактивных веществ и радиоактивных отходов в организации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верждено приказом Ростехнадзора от 10 февраля 2017 г.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50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9fc"/>
                    </a:solidFill>
                  </a:tcPr>
                </a:tc>
                <a:tc>
                  <a:txBody>
                    <a:bodyPr lIns="7200" rIns="7200" tIns="7200" bIns="72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9fc"/>
                    </a:solidFill>
                  </a:tcPr>
                </a:tc>
              </a:tr>
              <a:tr h="878400">
                <a:tc>
                  <a:txBody>
                    <a:bodyPr lIns="7200" rIns="7200" tIns="7200" bIns="72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Б-129-17. Рекомендации по формированию и поддержанию культуры безопасности на атомных станциях и в эксплуатирующих организациях атомных станций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верждено приказом Ростехнадзора от 19 сентября 2017 г.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371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9fc"/>
                    </a:solidFill>
                  </a:tcPr>
                </a:tc>
                <a:tc>
                  <a:txBody>
                    <a:bodyPr lIns="7200" rIns="7200" tIns="7200" bIns="72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9fc"/>
                    </a:solidFill>
                  </a:tcPr>
                </a:tc>
              </a:tr>
              <a:tr h="878400">
                <a:tc>
                  <a:txBody>
                    <a:bodyPr lIns="7200" rIns="7200" tIns="7200" bIns="72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Б-138-17. Установление и методы мониторинга ресурсных характеристик контрольно-измерительных приборов автоматики атомных станций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верждено приказом Ростехнадзора от 11 октября 2017 г.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421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9fc"/>
                    </a:solidFill>
                  </a:tcPr>
                </a:tc>
                <a:tc>
                  <a:txBody>
                    <a:bodyPr lIns="7200" rIns="7200" tIns="7200" bIns="72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9fc"/>
                    </a:solidFill>
                  </a:tcPr>
                </a:tc>
              </a:tr>
              <a:tr h="878400">
                <a:tc>
                  <a:txBody>
                    <a:bodyPr lIns="7200" rIns="7200" tIns="7200" bIns="72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Б-130-17. Положение по установлению уровней физической защиты радиационных объекто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верждено приказом Ростехнадзора от 1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октября 2017 г.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4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9fc"/>
                    </a:solidFill>
                  </a:tcPr>
                </a:tc>
                <a:tc>
                  <a:txBody>
                    <a:bodyPr lIns="7200" rIns="7200" tIns="7200" bIns="72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9fc"/>
                    </a:solidFill>
                  </a:tcPr>
                </a:tc>
              </a:tr>
            </a:tbl>
          </a:graphicData>
        </a:graphic>
      </p:graphicFrame>
      <p:sp>
        <p:nvSpPr>
          <p:cNvPr id="468" name="Номер слайда 6"/>
          <p:cNvSpPr/>
          <p:nvPr/>
        </p:nvSpPr>
        <p:spPr>
          <a:xfrm>
            <a:off x="8647200" y="6524640"/>
            <a:ext cx="4968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0EECB-4B1A-4CFD-AF7E-647D673E6CAE}" type="slidenum">
              <a:rPr b="1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9" name="Заголовок 2"/>
          <p:cNvSpPr/>
          <p:nvPr/>
        </p:nvSpPr>
        <p:spPr>
          <a:xfrm>
            <a:off x="946080" y="5603760"/>
            <a:ext cx="822960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0" name="TextBox 2"/>
          <p:cNvSpPr/>
          <p:nvPr/>
        </p:nvSpPr>
        <p:spPr>
          <a:xfrm>
            <a:off x="2627280" y="6064200"/>
            <a:ext cx="65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еречнем РБ  можно ознакомиться на сайте НТЦ ЯРБ Ростехнадзора по адресу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ttp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secnrs.ru/science/development/rd/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250560" y="549360"/>
            <a:ext cx="83962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9440" algn="just">
              <a:lnSpc>
                <a:spcPct val="1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2" name="Номер слайда 6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02317-78A6-46B6-B3B5-32D5F67C620A}" type="slidenum"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3" name="Прямоугольник 3"/>
          <p:cNvSpPr/>
          <p:nvPr/>
        </p:nvSpPr>
        <p:spPr>
          <a:xfrm>
            <a:off x="380880" y="620640"/>
            <a:ext cx="84981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4" name="Прямоугольник 2"/>
          <p:cNvSpPr/>
          <p:nvPr/>
        </p:nvSpPr>
        <p:spPr>
          <a:xfrm>
            <a:off x="380880" y="333360"/>
            <a:ext cx="8367840" cy="55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9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Б-138-17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Установление и методы мониторинга ресурсных характеристик контрольно-измерительных приборов и автоматики атомных станций» разработано в соответствии со статьей 6 Федерального закона от 21 ноября 1995 № 170-ФЗ «Об использовании атомной энергии» в целях содействия соблюдению требований федеральных норм и правил в области использования атомной энергии «Основные требования к продлению срока эксплуатации блока атомной станции» (НП-017-2000), утвержденных постановлением Госатомнадзора России от 18.09.2000 № 4, «Требования к управлению ресурсом оборудования и трубопроводов атомных станций. Основные положения» (НП-096-15), утвержденных приказом Ростехнадзора от 15.10.2015 № 410.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Б содержит рекомендации Ростехнадзора по установлению и методам мониторинга ресурсных характеристик контрольно-измерительных приборов и автоматики атомных станций при их проектировании, конструировании, изготовлении, эксплуатации и выводе из эксплуатации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417600" y="69192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9440" algn="just"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Б-130-17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ит рекомендации Ростехнадзора по установлению уровней физической защиты для объектов (помещений, сооружений, зданий), на которых осуществляется обращение с радиоактивными веществами либо размещается и (или) эксплуатируется радиационный источник или пункт хранения (для радиационных объектов). Руководство предназначено для использования организацией (предприятием), осуществляющей эксплуатацию радиационного источника или пункта хранения, обращение с радиоактивными веществами или радиоактивными отходами, а также федеральными органами исполнительной власти и уполномоченными организациями, осуществляющими государственное управление использованием атомной энергии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6" name="Номер слайда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F751F-BDC8-4863-8D21-BCF3A5C24CF6}" type="slidenum"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468000" y="980640"/>
            <a:ext cx="835164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ие рекомендации по осуществлению надзора за обеспечением радиационной безопасности на объектах проведения геофизических исследований с использованием радиационных источников. (утверждены приказом от 25 июля 2017 г. № 282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е методические рекомендации содержат рекомендации по организации и проведению проверок (инспекций) в организациях, эксплуатирующих мобильные радиационные источники (геофизическое оборудование, в котором размещены закрытые радионуклидные источники) при проведении геофизических исследований, а также осуществляющих их транспортирование к месту проведения работ за границами своей территории (то есть с выездом на пути сообщения общего пользования)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етодических рекомендациях под геофизическими исследованиями понимаются исследования различными методами геологического разреза скважин, массива горных пород в околоскважинном и межскважинном пространствах, а также контроль технического состояния скважин при разработке месторождений полезных ископаемых, при проведении которых используются закрытые радионуклидные источники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8" name="Номер слайда 6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3E541-9A0F-49D2-BB34-E21D68C73C5B}" type="slidenum"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9" name="Заголовок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62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 txBox="1"/>
          <p:nvPr/>
        </p:nvSpPr>
        <p:spPr>
          <a:xfrm>
            <a:off x="457200" y="1341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9440"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ие рекомендации содержат рекомендации по организации и проведению проверок (инспекций) в организациях, эксплуатирующих радиоизотопные приборы в различных отраслях промышленности (в том числе металлургической, химической, нефтегазовой, угольной, горной, строительной), а также осуществляющих транспортирование мобильных радиоизотопных приборов к месту проведения работ за границами своей территории (то есть с выездом на пути сообщения общего пользования)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етодических рекомендациях под радиоизотопным прибором понимается радиационно-информационное устройство, принцип действия которого основан на использовании результатов взаимодействия ионизирующего излучения с объектом контроля, имеющее в своем составе закрытый радионуклидный источник (например, уровнемеры, толщиномеры, плотномеры, счетчики предметов, измерители давления, влагомеры, радиоизотопные извещатели дыма, анализаторы)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1" name="Номер слайда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C7423-1AC1-44E1-8FD6-F0A6042A5A70}" type="slidenum"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2" name="Заголовок 3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0" y="1341360"/>
            <a:ext cx="91440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94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ие о разработке и утверждении федеральных норм и правил в области использования атомной энергии, утвержденное постановлением Правительства от 1 декабря 1997 года N 1511, определяет порядок разработки, согласования, утверждения и введения в действие федеральных норм и правил в области использования атомной энергии (далее именуются - федеральные нормы и правила), а также внесения в них изменений и дополнений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ФНП и руководств по безопасности (далее- РБ) осуществляется органами государственного регулирования безопасности и/или органами управления использованием атомной энергии в соответствии с их компетенцией к таким органам относится и Ростехнадзор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ФНП и РБ ведется в связи с усовершенствованием нормативно-правовой базы в регулируемой области, а так же в связи с инкорпорацией документов принятых в советское время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ы государственного регулирования безопасности осуществляют ведение и размещение на своих официальных сайтах в информационно-телекоммуникационной сети "Интернет" перечни утвержденных ими (или относящихся к их сфере ведения) ФНП и РБ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0" name="Номер слайда 6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4063E-7A51-486D-879F-693801770E59}" type="slidenum"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1" name="Заголовок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05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94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сены изменения в: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«Административный регламент по исполнению Федеральной службой по экологическому, технологическому и атомному надзору государственной функции по осуществлению федерального государственного строительного надзора при строительстве, реконструкции объектов капитального строительства»;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«Административный регламент по исполнению Федеральной службой по экологическому, технологическому и атомному надзору государственной функции по осуществлению государственного надзора за деятельностью саморегулируемых организаций в области инженерных изысканий, архитектурно-строительного проектирования, строительства, реконструкции и капитального ремонта объектов капитального строительства»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4" name="Номер слайда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EB2F3-74EF-4C3F-9FB0-53F55DDEFAF6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5" name="Прямоугольник 5"/>
          <p:cNvSpPr/>
          <p:nvPr/>
        </p:nvSpPr>
        <p:spPr>
          <a:xfrm>
            <a:off x="539640" y="260280"/>
            <a:ext cx="840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ом Ростехнадзора от 09.10.2017 № 414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 внесении изменений в отдельные административные регламенты Федеральной службы по экологическому, технологическому и атомному надзору по исполнению государственной функции по осуществлению государственного контроля (надзора) в целях приведения в соответствие с законодательством РФ о государственном контроле (надзоре)»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 txBox="1"/>
          <p:nvPr/>
        </p:nvSpPr>
        <p:spPr>
          <a:xfrm>
            <a:off x="457200" y="404640"/>
            <a:ext cx="8229600" cy="560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944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«Административный регламент по исполнению Федеральной службой по экологическому, технологическому и атомному надзору государственной функции по федеральному государственному надзору в области использования атомной энергии»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«Административный регламент по исполнению Федеральной службой по экологическому, технологическому и атомному надзору государственной функции по осуществлению контроля и надзора за физической защитой ядерных установок, радиационных источников, пунктов хранения, ядерных материалов и радиоактивных веществ, за системами единого государственного учета и контроля ядерных материалов, радиоактивных веществ, радиоактивных отходов»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Номер слайда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D1EBE-A10E-43B7-9FB5-4059138DBC68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 txBox="1"/>
          <p:nvPr/>
        </p:nvSpPr>
        <p:spPr>
          <a:xfrm>
            <a:off x="468360" y="259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94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сновном изменения касаются дополнением регламентов следующими требованиями и положениями: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 правилах формирования и ведения единого реестра проверок (ЕРП);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 направлении органами государственного контроля запроса и получении документов (информации) при организации проверок, от иных органов, в распоряжении которых находятся документы (информация) необходимые для проведения проверки;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о запрещении органам государственного контроля требовать от юридических лиц и индивидуальных предпринимателей документов ( информации), включая разрешительные документы, имеющиеся в распоряжении иных органов государственного контроля;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 запрещении органам государственного контроля требовать от юридических лиц и индивидуальных предпринимателей документов ( информации), которая была представлена ранее или находится в государственных и муниципальных информационных системах, ресурсах, регистрах;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 запрещении органам государственного контроля требовать от юридических лиц и индивидуальных предпринимателей документов ( информации), до даты начала проведения проверки;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9" name="Номер слайда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F5177-7E8B-40AD-AFEF-B1F3EEB9B42B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 txBox="1"/>
          <p:nvPr/>
        </p:nvSpPr>
        <p:spPr>
          <a:xfrm>
            <a:off x="468360" y="25992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94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 обязанности должностных лиц органов государственного контроля истребовать документы (информацию) необходимые при осуществлении государственного контроля от иных государственных органов, в распоряжении которых находятся указанные документы;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 обязанности должностных лиц органов государственного контроля знакомить руководителя юридического лица, индивидуального предпринимателя с документами (информацией), необходимой при осуществлении государственного контроля, полученной от иных государственных органов;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 неправомерности должностных лиц органов государственного контроля проверять выполнение обязательных требований, если такие требования не относятся к их полномочиям;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 неправомерности должностных лиц органов государственного контроля проверять выполнение требований, установленных нормативными правовыми актами органов исполнительной власти СССР и РСФСР и не соответствующих законодательству Российской Федерации;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 неправомерности должностных лиц органов государственного контроля проверять выполнение требований, установленных нормативными правовыми актами , не опубликованными в установленном порядке;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1" name="Номер слайда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86741-1C10-4BCE-87F4-0E86B4887609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 txBox="1"/>
          <p:nvPr/>
        </p:nvSpPr>
        <p:spPr>
          <a:xfrm>
            <a:off x="468360" y="333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9440"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 неправомерности должностных лиц государственного контроля превышать установленные сроки проведения проверки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случае, если проведение проверки оказалось невозможным в связи с отсутствием индивидуального предпринимателя, руководителя (или иного должностного лица) юридического лица, либо в связи с фактическим неосуществлением деятельности или иным бездействием юридического лица, индивидуального предпринимателя повлекшим невозможность проведения проверки, должностным лицом органа государственного контроля составляется акт о невозможности проведения проверки с указанием причин невозможности ее проведения. В этом случае орган государственного контроля в течение 3 месяцев со дня составления акта о невозможности проведения проверки вправе принять решение о проведении в отношении таких индивидуальных предпринимателей и юридических лиц выездной проверки без внесения проверки в ежегодный план проверок и без предварительного уведомления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3" name="Номер слайда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4A48D-42B5-4F79-90D5-F467F150AF56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 txBox="1"/>
          <p:nvPr/>
        </p:nvSpPr>
        <p:spPr>
          <a:xfrm>
            <a:off x="457200" y="1989000"/>
            <a:ext cx="83628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9440"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Внесены   изменения   касающиеся   разграничения    полномочий   при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ении государственной услуги по лицензированию между центральным аппаратом Ростехнадзора и его территориальными органами, а именно: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дача  организациям  лицензий на право сооружения стационарных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ов и сооружений, предназначенных для захоронения радиоактивных отходов (в том числе и организациям выполняющим работы и предоставляющим услуги эксплуатирующим организациям) относится к компетенции только центрального аппарата Ростехнадзора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5" name="Номер слайда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85DB6-76CD-4C3A-B72D-8CCBC51147F0}" type="slidenum"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6" name="Заголовок 3" descr=""/>
          <p:cNvPicPr/>
          <p:nvPr/>
        </p:nvPicPr>
        <p:blipFill>
          <a:blip r:embed="rId1"/>
          <a:stretch/>
        </p:blipFill>
        <p:spPr>
          <a:xfrm>
            <a:off x="609480" y="115920"/>
            <a:ext cx="8089920" cy="179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324000" y="333000"/>
            <a:ext cx="84247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105840"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выдача   организациям   лицензий на право вывода   из эксплуатации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105840"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дов и других плавсредств с ядерными реакторами, судов атомно-технологического обслуживания, содержащие ЯМ, другие транспортных и транспортабельных средств с ядерными реакторами, космических и летательных аппаратов с ядерными реакторами  относится к компетенции центрального аппарата Ростехнадзора, а организациям выполняющим работы и предоставляющим услуги эксплуатирующим организациям к компетенции МТУ по надзору за ЯРБ Ростехнадзора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105840"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к  компетенции  центрального   аппарата   Ростехнадзора   относится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105840"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ача лицензий на право конструирования оборудования для ядерных установок (блоков атомных станций), радиационных источников, пунктов хранения ядерных материалов и радиоактивных веществ, радиоактивных отходов ряду организаций, в том числе ФГУП УЭМЗ (Уральский электромеханический завод)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105840"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8" name="Номер слайда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A6380-C988-4D18-9B1F-9A02094CC8ED}" type="slidenum"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Номер слайда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989C5-D8A6-4923-9C22-84AE4D700F53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0" name="Прямоугольник 4"/>
          <p:cNvSpPr/>
          <p:nvPr/>
        </p:nvSpPr>
        <p:spPr>
          <a:xfrm>
            <a:off x="395280" y="549360"/>
            <a:ext cx="8353440" cy="48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   компетенции   центрального   аппарата   Ростехнадзора   относится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ача лицензий на право изготовления оборудования для ядерных установок, радиационных источников, пунктов хранения ядерных материалов и радиоактивных веществ, хранилищ радиоактивных отходов (за исключением судов и других плавсредств с ядерными реакторами, судов атомно-технологического обслуживания, других транспортных и транспортабельных средств с ядерными реакторами, космических и летательных аппаратов с ядерными реакторами, космических аппаратов с использованием энергии радиоактивных веществ) ряду организаций, в том числе ФГУП УЭМЗ и АО «СвердНИИХИММАШ»;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   компетенции   центрального   аппарата   Ростехнадзора   относится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ача лицензий организациям, осуществляющим проектирование и конструирование систем контроля и управления и надежного электроснабжения блоков атомных станций;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 txBox="1"/>
          <p:nvPr/>
        </p:nvSpPr>
        <p:spPr>
          <a:xfrm>
            <a:off x="468360" y="40464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9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к  компетенции  центрального   аппарата   Ростехнадзора   относится выдача лицензий по всем видам деятельности в области использования атомной энергии ряду организаций, в том числе ФГУП «ПО Маяк» и АО «УЭХК»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дача  лицензий  на  деятельность  по  обращению  с  РАО  при   их хранении, переработке, транспортировании и захоронении применительно к стационарным объектам и сооружениям, имеющим межрегиональное значение и предназначенным для хранения РВ и РАО, осуществляется центральным аппаратом Ростехнадзора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к компетенции   центрального   аппарата   Ростехнадзора   относится выдача лицензий на обращение с ЯМ, РВ и РАО при их транспортировании, в том числе и организациям, выполняющим работы и предоставляющим услуги в области использования атомной энергии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2" name="Номер слайда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85AAF-BB63-4EEA-AC04-6D75B686920E}" type="slidenum"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Номер слайда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C1425-F13D-4268-8DE0-C8ED65A9B56C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468000" y="475920"/>
            <a:ext cx="8280360" cy="55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9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выдача   лицензий   на   деятельность,  связанную   с   эксплуатацией мобильных радиационных источников (включая их транспортирование и хранение), в случае если заявленная деятельность планируется на территории одного МТУ Ростехнадзора, осуществляется тем МТУ Ростехнадзора, на территории которого планируется деятельность. При этом эксплуатация мобильных радиационных источников, включая транспортирование и хранение этих источников, рассматривается как один вид деятельности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к   компетенции   центрального   аппарата  Ростехнадзора  относится лицензирование видов деятельности в отношении мобильных радиационных источников в случае подачи заявления на получение совмещенной лицензии, а также в случае осуществлении  предполагаемой заявленной деятельности на территории двух и более МТУ Ростехнадзора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179280" y="620640"/>
            <a:ext cx="8677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94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осуществлении деятельности в области использования атомной энергии следует учитывать, что в соответствии с распоряжением Президента РФ от 18 марта 2011 г. № 158-рп «Об организации работы по инкорпорации правовых актов СССР и РСФСР или их отдельных положений в законодательство Российской Федерации и (или) по признанию указанных актов недействующими на территории Российской Федерации» правовые акты СССР и РСФСР подлежат пересмотру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же статьей 15 ФЗ-294 «О защите прав юридических лиц и индивидуальных предпринимателей при осуществлении государственного контроля (надзора) и муниципального контроля» введены ограничения по применению регулирующими органами правовых актов СССР и РСФСР при проведении контрольно-надзорных мероприятий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именно, при проведении проверки должностные лица органа государственного контроля (надзора), органа муниципального контроля не вправе проверять выполнение требований, установленных нормативными правовыми актами органов исполнительной власти СССР и РСФСР и не соответствующих законодательству Российской Федерации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3" name="Номер слайда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CF91D-EDBF-4F71-BAF1-4475804350E0}" type="slidenum"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Номер слайда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40612-E768-4D9D-ACD1-80FDF898C6C0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6" name="Прямоугольник 5"/>
          <p:cNvSpPr/>
          <p:nvPr/>
        </p:nvSpPr>
        <p:spPr>
          <a:xfrm>
            <a:off x="539640" y="907920"/>
            <a:ext cx="7993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к   компетенции   центрального  аппарата  Ростехнадзора относится выдача лицензий организациям, выполняющим работы и предоставляющим услуги следующим организациям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ГУП «РАДОН», г. Москва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ГУП «РосРАО», г. Москва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ГУП «НО РАО», г. Москва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Прямоугольник 2"/>
          <p:cNvSpPr/>
          <p:nvPr/>
        </p:nvSpPr>
        <p:spPr>
          <a:xfrm>
            <a:off x="468360" y="476280"/>
            <a:ext cx="8280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ункт 47 регламента дополнен абзацем следующего содержания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 случае поступления заявления о предоставлении лицензии и прилагаемых к нему документов с нарушением разграничения полномочий при предоставлении государственной услуги по лицензированию в области использования атомной энергии между центральным аппаратом Ростехнадзора и МТУ Ростехнадзора, такое заявление и прилагаемые к нему документы направляются в течение 5 рабочих дней с даты регистрации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в   соответствующее   МТУ   Ростехнадзора   –  в   случае   поступления заявления в центральный аппарат Ростехнадзора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центральный аппарат Ростехнадзора – в случае поступления заявления в МТУ Ростехнадзора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8" name="Номер слайда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Lucida Sans Unicode"/>
              </a:rPr>
              <a:t>31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Номер слайда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Lucida Sans Unicode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0" name="Прямоугольник 2"/>
          <p:cNvSpPr/>
          <p:nvPr/>
        </p:nvSpPr>
        <p:spPr>
          <a:xfrm>
            <a:off x="395280" y="474840"/>
            <a:ext cx="82803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ункт 56 регламента дополнен абзацем следующего содержания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и рассмотрении документов, представленных для получения лицензии, до утверждения экспертного заключения по инициативе соискателя лицензии могут быть представлены дополнительные документы, касающиеся обеспечения безопасности объекта использования атомной энергии и (или) лицензируемого вида деятельности в адрес лицензирующего органа. На основании представленных дополнительных документов лицензирующий орган вносит соответствующие изменения в задание на проведение экспертизы (экспертизы обоснования безопасности)»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Номер слайда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Lucida Sans Unicode"/>
              </a:rPr>
              <a:t>33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2" name="Прямоугольник 2"/>
          <p:cNvSpPr/>
          <p:nvPr/>
        </p:nvSpPr>
        <p:spPr>
          <a:xfrm>
            <a:off x="684360" y="620640"/>
            <a:ext cx="8135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Изменен раздел регламент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едоставление переоформленной лицензии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этом появилось следующее требование: - при изменении места нахождения юридического лица (лицензиата) в пределах территории, на которой государственную услугу по лицензированию деятельности в области использования атомной энергии предоставляет МТУ Ростезнадзора, который не выдавал лицензию, лицензиат подает заявление на переоформление лицензии в данное МТУ Ростехнадзора и уведомляет об этом МТУ Ростехнадзора, выдавшее лицензию. При этом МТУ Ростехнадзора, выдавшее лицензию, передает лицензионное дело в МТУ Ростехнадзора, которое предоставляет государственную услугу по лицензированию в соответствии с новым местом нахождения лицензиата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Номер слайда 1"/>
          <p:cNvSpPr/>
          <p:nvPr/>
        </p:nvSpPr>
        <p:spPr>
          <a:xfrm>
            <a:off x="8647200" y="6165720"/>
            <a:ext cx="36648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Lucida Sans Unicode"/>
              </a:rPr>
              <a:t>34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4" name="Прямоугольник 2"/>
          <p:cNvSpPr/>
          <p:nvPr/>
        </p:nvSpPr>
        <p:spPr>
          <a:xfrm>
            <a:off x="611280" y="404640"/>
            <a:ext cx="813744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Изменен раздел регламента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ассмотрение документов, представляемых для внесения изменения в условия действия лицензии (УДЛ), включая проверку достоверности сведений, содержащихся в представленных документах»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и этом появилось следующее требование: - в процессе рассмотрения документов, представленных для внесения изменения в УДЛ, по инициативе лицензиата до утверждения экспертного заключения могут быть представлены дополнительные документы, касающиеся обеспечения безопасности объекта использования атомной энергии и (или) лицензируемого вида деятельности в области использования атомной энергии с планируемым изменением, в адрес лицензирующего органа. На основании представленных дополнительных документов лицензирующим органом вносятся соответствующие изменения в задание на проведение экспертизы (экспертизы безопасности)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Номер слайда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Lucida Sans Unicode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6" name="Прямоугольник 2"/>
          <p:cNvSpPr/>
          <p:nvPr/>
        </p:nvSpPr>
        <p:spPr>
          <a:xfrm>
            <a:off x="395280" y="293760"/>
            <a:ext cx="8209080" cy="58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ряжения, выпущенные Госкоропорацией «Росатом»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ряжением Госкорпорации «Росатом» от 02.10.2017 № 1-1.4/781-Р утверждены следующие перечни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Единый перечень должностей руководящих работников объектов использования атомной энергии  (за исключением атомных станций), которые должны получать разрешения Федеральной службы по экологическому, технологическому и атомному надзору на право ведения работ в области использования атомной энергии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Единый перечень руководящих работников подразделений, работников производственного контроля и работников, ведущих технологический процесс (оперативный персонал) объектов использования атомной энергии (за исключением атомных станций), которые должны получать разрешения Федеральной службы по экологическому, технологическому и атомному надзору на право ведения работ в области использования атомной энергии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ряжение Госкорпорации «Росатом» от 10.03.2017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1.4/134-Р «О перечнях должностей работников объектов использования атомной энергии…» признано утратившим силу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Номер слайда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06075-3D33-470E-9532-61DA2B030E51}" type="slidenum">
              <a:rPr b="1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18" name="Заголовок 2" descr=""/>
          <p:cNvPicPr/>
          <p:nvPr/>
        </p:nvPicPr>
        <p:blipFill>
          <a:blip r:embed="rId1"/>
          <a:stretch/>
        </p:blipFill>
        <p:spPr>
          <a:xfrm>
            <a:off x="469800" y="1700280"/>
            <a:ext cx="7991640" cy="113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468360" y="1413000"/>
            <a:ext cx="8229600" cy="49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9440" algn="just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ом Ростехнадзора от 17 октября 2016 года № 421 «Об утверждении перечней правовых актов, содержащих обязательные требования, соблюдение которых оценивается при проведении мероприятий по контролю в рамках осуществления видов государственного контроля (надзора), отнесенных к компетенции Федеральной службы по экологическому, технологическому и атомному надзору» (Приложениями 2 и 3) установлены перечни правовых актов, которыми руководствуется Уральское МТУ при выполнении своих контрольно-надзорных функций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just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ожение 2 – Перечень актов, применяемых при осуществлении федерального государственного строительного надзора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just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ожение 3 - Перечень актов, применяемых при осуществлении федерального государственного надзора в области использования атомной энергии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just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иказ Ростехнадзора от 17.10.2016 г. № 421 и соответствующие перечни размещены на официальном сайте Ростехнадзора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gosnadzor.ru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5" name="Номер слайда 6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7248E-CF47-4BDE-B097-C15FEBF7C604}" type="slidenum"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6" name="Заголовок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457200" y="188640"/>
            <a:ext cx="8229600" cy="58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ом Ростехнадзора от 23.05.2017 № 172 утвержден Раздел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Государственное регулирование безопасности при использовании атомной энергии» Пнречня нормативных правовых актов и нормативных документов, относящихся к сфере деятельности Ростехнадзора (П-01-01-2017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иказ Ростехнадзора от 23.05.2017 г. № 172 размещены на официальном сайте Ростехнадзор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gosnadzor.ru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8" name="Номер слайда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7A977-4984-4474-820C-43B8732E2312}" type="slidenum"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0" y="1125360"/>
            <a:ext cx="9144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944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м законом № 316-Ф3 от 03 июля 2016 года внесены изменения в КоАП РФ касающиеся 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ягчения мер административной ответственности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отношении являющихся субъектами малого и среднего предпринимательства лиц, осуществляющих предпринимательскую деятельность без образования юридического лица, и юридических лиц, а также руководителей и иных работников указанных юридических лиц, совершивших административные правонарушения в связи с выполнением организационно-распорядительных или административно-хозяйственных функций 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впервые совершенные административные правонарушения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 отсутствии причинения вреда или угрозы причинения вреда жизни и здоровью людей, объектам животного и растительного мира, окружающей среде, объектам культурного наследия (памятникам истории и культуры) народов Российской Федерации, безопасности государства, угрозы чрезвычайных ситуаций природного и техногенного характера, а также при отсутствии имущественного ущерба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тье 9.5.1 КоАП РФ отражены изменения требований к деятельности членов саморегулируемых организаций в области инженерных изысканий, архитектурно-строительного проектирования или строительства, реконструкции, капитального ремонта объектов капитального строительства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Номер слайда 6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27DAB-A4CE-44A4-AC3B-B3EC3788E105}" type="slidenum"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1" name="Заголовок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8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м законом от 03.07.2016 № 227-ФЗ О внесении изменений в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екс Российской Федерации об административных правонарушениях» в кодекс внесен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ья 20.34 «Нарушение требований к оборудованию инженерно-техническими средствами охраны важных государственных объектов, специальных грузов, сооружений на коммуникациях, подлежащих охране войсками национальной гвардии Российской Федерации»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е требований вышеуказанной статьи руководителями и должностными лицами влечет наложение административного штрафа а размере от тридцати тысяч до пятидесяти тысяч рублей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должностным лицам уполномоченным составлять протоколы об административных правонарушениях вышеуказанной статьи, отнесены должностные лица органов, осуществляющих федеральный государственный надзор в области использования атомной энергии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должностным лицам уполномоченным рассматривать дела об административных правонарушениях вышеуказанной статьи, отнесены судьи районных судов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Номер слайда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84273-76AB-4F76-9831-1F03F770AEBA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4" name="Заголовок 3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 txBox="1"/>
          <p:nvPr/>
        </p:nvSpPr>
        <p:spPr>
          <a:xfrm>
            <a:off x="457200" y="98064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м законом от 03.07.2016 № 372-ФЗ «О внесении изменений в Градостроительный кодекс Российской Федерации и отдельные законодательные акты Российской Федерации» внесены изменения, затрагивающие сферу государственного строительного надзора, в том числе в отношении объектов использования атомной энергии, вступившие в силу с 1 июля 2017 года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изменения коснулись требований к осуществлению деятельности членами саморегулируемых организаций, осуществляющих предпринимательскую деятельность по выполнению инженерных изысканий, проектирования и строительства объектов капитального строительства в связи с отменой требований о наличии у индивидуальных предпринимателей или юридических лиц свидетельства о допуске к определенному виду или видам работ по инженерным изысканиям, по подготовке проектной документации, по строительству, реконструкции, капитальному ремонту объектов строительства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6" name="Номер слайда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C6133-62D9-41A4-9C86-567971D82319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7" name="Заголовок 3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178920" y="1628640"/>
            <a:ext cx="87138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944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сены изменения в Федеральный закон № 294-ФЗ от 26 декабря 2008 года касающиеся: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и и проведение мероприятий, направленных на профилактику нарушений обязательных требований;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явления предостережения о недопустимости нарушения обязательных требований в соответствии с Постановлением Правительства РФ от 10 февраля 2017 года № 166;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и и проведение мероприятий по контролю без взаимодействия с юридическими лицами, индивидуальными предпринимателями;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и использования при проведении плановой проверки должностным лицом органа государственного контроля (надзора) проверочных листов (списков контрольных вопросов);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ания проведения внеплановой проверки юридического лица, индивидуального предпринимателя для предоставления правового статуса, специального разрешения (лицензии), выдачи разрешения (согласования);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тивированного представления должностного лица органа государственного контроля (надзора) по результатам анализа результатов мероприятий по контролю без взаимодействия с юридическими лицами;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9" name="Номер слайда 6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AE03F-0FE2-4E1B-823D-C91638507B1A}" type="slidenum"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0" name="Заголовок 2" descr=""/>
          <p:cNvPicPr/>
          <p:nvPr/>
        </p:nvPicPr>
        <p:blipFill>
          <a:blip r:embed="rId1"/>
          <a:stretch/>
        </p:blipFill>
        <p:spPr>
          <a:xfrm>
            <a:off x="457200" y="115920"/>
            <a:ext cx="8229600" cy="1438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28T09:18:29Z</dcterms:created>
  <dc:creator>Асатова Наиля Наилевна</dc:creator>
  <dc:description/>
  <dc:language>en-US</dc:language>
  <cp:lastModifiedBy>Стенина Светлана Николаевна</cp:lastModifiedBy>
  <cp:lastPrinted>2017-11-13T10:44:57Z</cp:lastPrinted>
  <dcterms:modified xsi:type="dcterms:W3CDTF">2018-03-22T03:43:31Z</dcterms:modified>
  <cp:revision>158</cp:revision>
  <dc:subject/>
  <dc:title>Федеральная служба по экологическому, технологическому и атомному надзору   Уральское МТУ по надзору за ЯРБ Ростехнадзора</dc:title>
</cp:coreProperties>
</file>