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337D-2DA2-4F3C-9545-7AADCA14F6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8B7C-ECD9-47EF-9A5E-50EFB7BE2D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1E4E-5EB3-432C-9DD6-5F0BD8A23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40C4-57D6-4048-BC6B-ABF9AD681F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335-3A4F-4C83-BB59-5028E95F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614-2546-4FE2-A9EA-BEB22CEB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E5910-6B50-4BEA-96DD-0F7677B1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8D9A6-8C5D-4BEA-A854-01802A1D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D228B-17D4-45B3-A97B-B6D6D837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2258C-2F85-4365-B748-5EC7FCDD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EFA5C-C165-4D74-B533-7218F20A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D7F0D-9754-4FC0-81EB-9E49F35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9BD09-B813-4A40-8D35-293291D9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A9411-4C4D-4A99-BB7E-7E094192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4CA59-E3E1-472F-BC29-168477B9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A3B-E05A-4A7C-BF8B-76757965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602-2612-41C1-98AC-5554CB95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51AF-1735-43FA-B017-BA0A16D1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81B3-2864-45FD-9345-665B12DD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4AA2-E7D3-4E89-A164-F56E7FB1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2C43-29AE-4983-9A6C-E528EAC9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3771-6252-46A6-BBCD-E5DFA45D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DCBA-3CE8-4394-BFB9-00D8B87B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ABED-D15C-4023-8BDF-3B040D5A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0F1-348B-4C0B-A33F-52FCACCD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343E-B24A-4BCC-B56E-C07B68D8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21B9-E6EF-418D-AC38-C25F2C8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A516-E0E7-405A-8928-9EDE1260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5148-744C-45F4-BB9F-10F69601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A16C-2BC3-4CCA-B83E-68B1B4EA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427D-086C-4770-A952-C082DF1A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A3A7-6991-4944-9DFE-07D9EDD9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BC58-37A2-4A1C-AEF4-4BFE33B6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520C-FC19-4FC6-98E3-D6EA51B7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8DDD-2FDE-4CE3-B505-B5468B4E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833-12E4-41AB-83F9-49F8D46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ADFF-17C3-4E2A-B9ED-2976C77B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4629-1B34-41D7-9E51-B117C6D4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65A2-1FF0-4574-8EFD-060CFB4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B1AD-3DD7-44B1-A31D-F7E89E66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55E3-A30E-459A-BA76-48D8866D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C459-12B1-47C1-97B8-7F9666A8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1A58-A5F6-4B2C-903B-829B6F43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3889-EBFB-4671-AB87-590E199F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466A-35B0-4B57-AD28-B00124F5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7500-289B-4177-A449-28153CF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C22-3B9F-4D21-B325-25CA1F66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7EA9-8CFF-4E9A-B343-55862E66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6388-FC10-45F8-8592-5761BAA6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BCFF-717B-40F5-BEE1-A6D68AD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27FB-B924-46CC-A087-E56DA843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50E3-6711-4E6B-9395-F92D8E37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E81B1-96F3-4BC3-AC91-90CC6DE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06F8-3800-4EFC-A872-0E857C19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8220-21D2-46A0-B73E-AAE008D2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31CD-096D-4900-9FE2-DB593911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1923E-FC36-48DD-803B-F040688B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9EC-AF67-4AFF-8381-DC02270D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651DA-98F8-480C-BCA2-27270861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A921-AA28-4599-880B-85CB0C03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51F58-47B6-422C-939A-05AE8F04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1EF8-AD26-49DA-A873-5FC492E2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ACDE-84F5-4000-A23B-6DFE64D6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4F8CD-D2C9-4BFF-BA2E-9F8A36F0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54C7-51B9-44D9-9467-2468C998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FA2B5-6A61-40E5-8371-B9E39784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B20A-FBF7-4486-BE4C-5B32ECDD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BAD48-7EC4-40E5-94C6-FE232AF0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FB2-387E-4A96-BF90-BB1EA539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3D100-4494-47E8-AB7D-49C796CB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05D5C-37D4-4613-9F08-9A61310A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04ADB-9BF2-4A71-B225-430FDA23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E1AD9-AFF6-4750-A3B8-E6858629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14F53-F2BD-4063-B1FD-5EE5D5E7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EA17-123E-44A4-A22B-6375BF29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423A-FBB6-4358-9020-E5B6F36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571B-B7B8-47E1-B194-1AED5454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B2203-855C-4648-925A-212A6DA3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15EF0-C66B-41B2-8346-BE3171B8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6C5-4366-4986-93C4-34DE1E35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08B90-1EC2-4E17-B090-62D70090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C2FC-0FBF-4302-B86C-A489556C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DA17D-983D-4C0E-9B10-0DE101D7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81D72-F6DB-450B-8E54-504C332A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522B2-57A6-40BD-ABC9-0B8B49F0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7E776-AC30-4490-8019-354BD74D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F89FC-C406-4A0E-82DC-C32BB058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795CA-8F15-4A69-AAD3-29A662D0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CBA0D-94F1-40F3-9BC7-5AE56426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92E34-1498-4DFE-9404-59B78020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4FF-0FF9-4110-8E9B-D2E93388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E550E-7FD0-4034-87F0-39905BC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F753D-A2DC-4339-81C6-5A1CBE2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A435-F00D-4055-9BB5-1E0AB57A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C8E0-866D-4A20-BF6B-6C36290B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6ECE-CADE-460C-B2E2-A5FD868F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B2EAB-A7E8-43E6-A21A-98D95FCC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89BFE-BC03-4CF7-8911-4BE086B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2F27D-B58F-44D7-BD68-70F4CF57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B9DA7-5B21-4A70-8669-65B907C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0AE77-EBC0-4675-AE67-1DEE4AE8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489-D88D-4C8F-BF99-71A0686C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D1E09-AED6-4CFA-8AEF-5B4BC811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42AED-C4D0-425D-965B-93B9D80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F0E50-952A-4526-90BB-D78238E1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6E38E-3993-4293-B9D0-ED548C6D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1B6F2-DCA8-49CD-B059-EE5B3A46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AAE94-714F-4783-B7E0-4B14AC5A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06314-2715-450F-B011-9B49FA4B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C0D37-14B2-4AB6-AC92-A535C905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BB41A-20BA-4546-B61B-7D774CEA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59999-E913-4151-86C5-2B1B3B6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1DCC-DB60-48FB-BF0A-4E51E1BDE50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AB1E-D5CE-4935-A625-B193289EC0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A4B6-049E-4F5E-ABCF-0172F384377F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10BB-32D1-4B1C-847A-871463D6A0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7761-AA17-47F5-AD53-C7581A5D74F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2B5F-9483-4DE8-9222-BB3F76F6E4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DC0-2191-4481-B752-D746F2F56E7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4BF0-18E2-4083-B7E1-C668298D6A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EE02-9DA0-4753-902F-A9623C41F26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85B-2016-4910-8957-CC61B1C6D8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DDF8-5F52-44E1-A77F-7EF2D15EB7C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CA1A-C6B5-45EC-AC8A-C214D47C46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D408-9497-4A26-9C9A-BC833FE648B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809-204E-4A52-85A2-3005F7F3E08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64ED-B542-47A8-A646-86AF1A6E54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0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1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4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8D4D-9E8A-471D-B0BB-D90935074E9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8EF3-006B-4236-A791-F22B703787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avo.ru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1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C1F3-CCEE-4B3E-834C-34E378BEFB22}" type="slidenum"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382920" y="274680"/>
            <a:ext cx="5761080" cy="2706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Users\N.Asatova\Desktop\Герб цветной.png"/>
          <p:cNvPicPr/>
          <p:nvPr/>
        </p:nvPicPr>
        <p:blipFill>
          <a:blip r:embed="rId2"/>
          <a:stretch/>
        </p:blipFill>
        <p:spPr>
          <a:xfrm>
            <a:off x="0" y="115920"/>
            <a:ext cx="2727360" cy="309708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3"/>
          <p:cNvSpPr/>
          <p:nvPr/>
        </p:nvSpPr>
        <p:spPr>
          <a:xfrm>
            <a:off x="971640" y="3429000"/>
            <a:ext cx="79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бязательных требований при осуществлении деятельности в области использования атомной энергии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247032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Екатеринбург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8001000"/>
                <a:gridCol w="1143000"/>
              </a:tblGrid>
              <a:tr h="1157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09-17. Правила ядерной безопасности исследовательских реакторо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04.08.2017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9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  <a:tr h="1157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98-17. Установки по производству плутоний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щего ядерного топлива. Требования безопас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23 июн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17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  <a:tr h="1157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99-17. Требования к составу и содержанию отчета по обоснованию безопасности пунктов хранения радиоактивных отход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23 июн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1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  <a:tr h="1157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100-17. Требования к составу и содержанию отчета по обоснованию безопасности пунктов захоронения радиоактивных отходов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23 июн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18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  <a:tr h="1157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57-17. Правила обеспечения безопасности при выводе из эксплуатации ядерных установок ядерного топливного цикла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14 июн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0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</a:tbl>
          </a:graphicData>
        </a:graphic>
      </p:graphicFrame>
      <p:sp>
        <p:nvSpPr>
          <p:cNvPr id="451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BB10-123B-4ED2-8825-F75D89B79C7C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0" y="189000"/>
          <a:ext cx="9144000" cy="5527440"/>
        </p:xfrm>
        <a:graphic>
          <a:graphicData uri="http://schemas.openxmlformats.org/drawingml/2006/table">
            <a:tbl>
              <a:tblPr/>
              <a:tblGrid>
                <a:gridCol w="8001000"/>
                <a:gridCol w="1143000"/>
              </a:tblGrid>
              <a:tr h="11332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06-16. Требования к содержанию отчета по обоснованию безопасности блока атомной станции с реактором типа ВВЭР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13 феврал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11746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28-16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обеспечения безопасности при выводе из эксплуатации исследовательских ядерных установок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 апрел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10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1176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12-16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обеспечения безопасности при выводе из эксплуатации блока атомной станции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январ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20430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53-16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безопасности при транспортировании радиоактивных материалов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сентября 2016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388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ы Минюстом России 24 января 2017 г. № 45375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публикования - 25 января 3017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или в силу 5 февраля 201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</a:tbl>
          </a:graphicData>
        </a:graphic>
      </p:graphicFrame>
      <p:sp>
        <p:nvSpPr>
          <p:cNvPr id="454" name="Номер слайда 6"/>
          <p:cNvSpPr/>
          <p:nvPr/>
        </p:nvSpPr>
        <p:spPr>
          <a:xfrm>
            <a:off x="8748720" y="649296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43DC-6A0D-46DE-A0D3-10EFF630D2C1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TextBox 1"/>
          <p:cNvSpPr/>
          <p:nvPr/>
        </p:nvSpPr>
        <p:spPr>
          <a:xfrm>
            <a:off x="2562120" y="579924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ечнем ФНП можно ознакомиться на Официальном интернет-портале правовой информации (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www.pravo.gov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НТЦ ЯРБ Ростехнадзора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ecnrs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7.01.2017 № 11 «О внесении изменений в приказы Федеральной службы по экологическому, технологическому и атомному надзору от 17 декабря 2015 г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2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 18 января 2016 г. № 13 и от 24 февраля 2016 г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7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измен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ующие нормы и прави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ные изменения касаются определения физико-механических характеристик материалов, численные значения которых должны отражаться в документах по стандартизации, а также качество и свойства основных материалов, сварочных и наплавочных материалов для изготовления оборудования и трубопроводов АЭУ должны удовлетворять требованиям документов по стандартизации, устанавливающие требования к продукции, предусмотренные Положением о стандартизации, утвержденным постановлением Правительства Российской Федерации от 12 июня 2016 г. № 669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7E89-3E95-49C6-8BE2-84DD62E02BBC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-6480" y="1268280"/>
          <a:ext cx="9144000" cy="2957760"/>
        </p:xfrm>
        <a:graphic>
          <a:graphicData uri="http://schemas.openxmlformats.org/drawingml/2006/table">
            <a:tbl>
              <a:tblPr/>
              <a:tblGrid>
                <a:gridCol w="1285920"/>
                <a:gridCol w="78580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94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ебования к обоснованию прочности и термомеханического поведения тепловыделяющих сборок и тепловыделяющих элементов в активной зоне водо-водяных энергетических реакторо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 утвержденные приказом Ростехнадзора от 18.01.2016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1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10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устройства и эксплуатации локализующих систем безопасности атомных станци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утвержденные приказо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от 10 февраля 2017 г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4.02.2016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89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устройства и безопасной эксплуатации оборудования и трубопроводов атомных энергетических установо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утвержденные приказом  Ростехнадзора от 17 декабря 2015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Номер слайда 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F279-4E07-4F95-AA3A-00E5F0A4D48D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Заголовок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"/>
          <p:cNvGraphicFramePr/>
          <p:nvPr/>
        </p:nvGraphicFramePr>
        <p:xfrm>
          <a:off x="0" y="696960"/>
          <a:ext cx="9144000" cy="4027320"/>
        </p:xfrm>
        <a:graphic>
          <a:graphicData uri="http://schemas.openxmlformats.org/drawingml/2006/table">
            <a:tbl>
              <a:tblPr/>
              <a:tblGrid>
                <a:gridCol w="8172360"/>
                <a:gridCol w="971640"/>
              </a:tblGrid>
              <a:tr h="93168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27-17. Состав и содержание программы радиационной защиты при транспортировании радиоактивных материалов.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24 августа 2017 г. № 3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93672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26-17. Рекомендуемые методы расчета параметров, необходимых для разработки нормативов допустимых сбросов радиоактивных веществ в водные объекты.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25 июля 2017 г. № 28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122400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033-17. Рекомендации к составу и содержанию отчета по комплексному обследованию судов и других плавсредств с ядерными реакторами и судов атомного технологического обслуживания при продлении срока их эксплуатации.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1 мая 2017 г. № 15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93492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25-17. Оценка взрывопожароопасности сорбционных систем при переработке отработавшего ядерного топлив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7 марта 2017 г. № 89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0" y="4724280"/>
          <a:ext cx="9144000" cy="1657440"/>
        </p:xfrm>
        <a:graphic>
          <a:graphicData uri="http://schemas.openxmlformats.org/drawingml/2006/table">
            <a:tbl>
              <a:tblPr/>
              <a:tblGrid>
                <a:gridCol w="8172360"/>
                <a:gridCol w="971640"/>
              </a:tblGrid>
              <a:tr h="165744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18-17. Рекомендации по структуре и содержанию положения по учету и контролю ядерных материалов в организациях, осуществляющих обращение с ядерными материалами, и инструкции по учету и контролю ядерных материалов в зоне баланса материало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27 февраля 2017 г. № 70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</a:tbl>
          </a:graphicData>
        </a:graphic>
      </p:graphicFrame>
      <p:sp>
        <p:nvSpPr>
          <p:cNvPr id="463" name="Номер слайда 7"/>
          <p:cNvSpPr/>
          <p:nvPr/>
        </p:nvSpPr>
        <p:spPr>
          <a:xfrm>
            <a:off x="8791560" y="6507000"/>
            <a:ext cx="3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0" y="6480"/>
          <a:ext cx="9144000" cy="6095880"/>
        </p:xfrm>
        <a:graphic>
          <a:graphicData uri="http://schemas.openxmlformats.org/drawingml/2006/table">
            <a:tbl>
              <a:tblPr/>
              <a:tblGrid>
                <a:gridCol w="8172360"/>
                <a:gridCol w="971640"/>
              </a:tblGrid>
              <a:tr h="111888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23-17. Основные рекомендации к разработке вероятностного анализа безопасности уровня 1 для блока атомной станции при исходных событиях, обусловленных сейсмическими воздействия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 февраля 2017 г. № 33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93528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16-17. Рекомендации к разработке вероятностного анализа безопасности для хранилищ отработавшего ядерного топлива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0 февраля 2017 г. № 51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6364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35-17. Рекомендации по методам и средствам контроля за выбросами радиоактивных веществ в атмосферный возду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30 августа 2017 г. № 34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108108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19-17. Рекомендации по проведению административного контроля в рамках системы учета и контроля радиоактивных веществ и радиоактивных отходов в организации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0 февраля 2017 г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0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7948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Б-129-17. Рекомендации по формированию и поддержанию культуры безопасности на атомных станциях и в эксплуатирующих организациях атомных стан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9 сентября 2017 г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37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121752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Б-138-17. Установление и методы мониторинга ресурсных характеристик контрольно-измерительных приборов автоматики атомных стан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1 октября 2017 г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42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</a:tbl>
          </a:graphicData>
        </a:graphic>
      </p:graphicFrame>
      <p:sp>
        <p:nvSpPr>
          <p:cNvPr id="465" name="Номер слайда 6"/>
          <p:cNvSpPr/>
          <p:nvPr/>
        </p:nvSpPr>
        <p:spPr>
          <a:xfrm>
            <a:off x="8647200" y="6524640"/>
            <a:ext cx="496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7A2D-DF4F-4AFA-84FD-F78C264CA17E}" type="slidenum">
              <a:rPr b="1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Заголовок 2"/>
          <p:cNvSpPr/>
          <p:nvPr/>
        </p:nvSpPr>
        <p:spPr>
          <a:xfrm>
            <a:off x="946080" y="5603760"/>
            <a:ext cx="82296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TextBox 2"/>
          <p:cNvSpPr/>
          <p:nvPr/>
        </p:nvSpPr>
        <p:spPr>
          <a:xfrm>
            <a:off x="2627280" y="606420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ечнем РБ  можно ознакомиться на сайте НТЦ ЯРБ Ростехнадзора по адресу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secnrs.ru/science/development/rd/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250560" y="549360"/>
            <a:ext cx="8396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A93D-55EF-4A09-B9A3-C4BCE2A0BE40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380880" y="620640"/>
            <a:ext cx="84981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-129-17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комендации по формированию и поддержанию культуры безопасности на атомных станциях и в эксплуатирующих организациях атомных станций» разработано в соответствии со статьей 6 Федерального закона от 21 ноября 1995 № 170-ФЗ «Об использовании атомной энергии» в целях содействия соблюдению требований пунктов 1.2.21, 1.2.22, 4.3.4 федеральных норм и правил в области использования атомной энергии «Общие положения обеспечения безопасности атомных станций» (НП-001-15), утвержденных приказом Ростехнадзора от 17.12.2015 № 522 (зарегистрирован Минюстом России 02.02.2016, регистрационный № 40939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 содержит рекомендации Ростехнадзора по формированию и поддержанию культуры безопасности на атомных станциях (в эксплуатирующих организациях) и предназначено для руководителей и работников эксплуатирующих организаций и атомных станций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ФНП в области использования атомной энергии к формированию и поддержанию культуры безопасности могут быть выполнены с использованием иных способов (методов), чем те, которые содержатс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Б-129-17, при обоснованности выбранных способов (методов) для обеспечения безопасност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176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-138-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становление и методы мониторинга ресурсных характеристик контрольно-измерительных приборов и автоматики атомных станций» разработано в соответствии со статьей 6 Федерального закона от 21 ноября 1995 № 170-ФЗ «Об использовании атомной энергии» в целях содействия соблюдению требований федеральных норм и правил в области использования атомной энергии «Основные требования к продлению срока эксплуатации блока атомной станции» (НП-017-2000), утвержденных постановлением Госатомнадзора России от 18.09.2000 № 4, «Требования к управлению ресурсом оборудования и трубопроводов атомных станций. Основные положения» (НП-096-15), утвержденных приказом Ростехнадзора от 15.10.2015 № 410 (зарегистрирован Минюстом России 11.11.2015, регистрационный № 39666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 содержит рекомендации Ростехнадзора по установлению и методам мониторинга ресурсных характеристик контрольно-измерительных приборов и автоматики атомных станций при их проектировании, конструировании, изготовлении, эксплуатации и выводе из эксплуатац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AE2B-375D-486A-B379-13B446E01A89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95280" y="333360"/>
            <a:ext cx="8353440" cy="58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69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РБ распространяется на контрольно-измерительные приборы и автоматику атомных станций, включаемых в программу управления ресурсом в соответствии с требованиями НП-096-15. РБ-138-17 рекомендуется для применения юридическим и физическим (должностным) лицам, осуществляющим проектирование, конструирование, изготовление, эксплуатацию и вывод из эксплуатации контрольно-измерительных приборов и автоматики атомных станций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РБ рекомендуется учитывать при формировании требований эксплуатирующей организации к закупаемым контрольно-измерительным приборам и автоматике атомных станций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, следует отметить, что РБ-138-17 разработано с учетом отечественного и зарубежного опыта по управлению ресурсом контрольно-измерительных приборов и автоматики атомных станций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EA5-C21C-426B-A925-25D39924125D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68000" y="980640"/>
            <a:ext cx="835164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осуществлению надзора за обеспечением радиационной безопасности на объектах проведения геофизических исследований с использованием радиационных источников. (утверждены приказом от 25 июля 2017 г. № 282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методические рекомендации содержат рекомендации по организации и проведению проверок (инспекций) в организациях, эксплуатирующих мобильные радиационные источники (геофизическое оборудование, в котором размещены закрытые радионуклидные источники) при проведении геофизических исследований, а также осуществляющих их транспортирование к месту проведения работ за границами своей территории (то есть с выездом на пути сообщения общего пользования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ческих рекомендациях под геофизическими исследованиями понимаются исследования различными методами геологического разреза скважин, массива горных пород в околоскважинном и межскважинном пространствах, а также контроль технического состояния скважин при разработке месторождений полезных ископаемых, при проведении которых используются закрытые радионуклидные источник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96BC-D728-4F35-B97C-69A1EC15BBE9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содержат рекомендации по организации и проведению проверок (инспекций) в организациях, эксплуатирующих радиоизотопные приборы в различных отраслях промышленности (в том числе металлургической, химической, нефтегазовой, угольной, горной, строительной), а также осуществляющих транспортирование мобильных радиоизотопных приборов к месту проведения работ за границами своей территории (то есть с выездом на пути сообщения общего пользования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ческих рекомендациях под радиоизотопным прибором понимается радиационно-информационное устройство, принцип действия которого основан на использовании результатов взаимодействия ионизирующего излучения с объектом контроля, имеющее в своем составе закрытый радионуклидный источник (например, уровнемеры, толщиномеры, плотномеры, счетчики предметов, измерители давления, влагомеры, радиоизотопные извещатели дыма, анализаторы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36D4-65B1-4018-AE64-74406ED9BC09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0" y="134136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разработке и утверждении федеральных норм и правил в области использования атомной энергии, утвержденное постановлением Правительства от 1 декабря 1997 года N 1511, определяет порядок разработки, согласования, утверждения и введения в действие федеральных норм и правил в области использования атомной энергии (далее именуются - федеральные нормы и правила), а также внесения в них изменений и дополнений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ФНП и руководств по безопасности (далее- РБ) осуществляется органами государственного регулирования безопасности и/или органами управления использованием атомной энергии в соответствии с их компетенцией к таким органам относится и Ростехнадзор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ФНП и РБ ведется в связи с усовершенствованием нормативно-правовой базы в регулируемой области, а так же в связи с инкорпорацией документов принятых в советское врем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го регулирования безопасности осуществляют ведение и размещение на своих официальных сайтах в информационно-телекоммуникационной сети "Интернет" перечни утвержденных ими (или относящихся к их сфере ведения) ФНП и РБ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B0F2-B598-484C-983F-71DAF43B0843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изменения в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Административный регламент по исполнению Федеральной службой по экологическому, технологическому и атомному надзору государственной функции по осуществлению федерального государственного строительного надзора при строительстве, реконструкции объектов капитального строительства»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Административный регламент по исполнению Федеральной службой по экологическому, технологическому и атомному надзору государственной функции по осуществлению государственного надзора за деятельностью саморегулируемых организаций в области инженерных изысканий, архитектурно-строительного проектирования, строительства, реконструкции и капитального ремонта объектов капитального строительства»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F04-46BD-4C0D-9D0F-94A1ED27B3D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Прямоугольник 5"/>
          <p:cNvSpPr/>
          <p:nvPr/>
        </p:nvSpPr>
        <p:spPr>
          <a:xfrm>
            <a:off x="539640" y="260280"/>
            <a:ext cx="840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Ростехнадзора от 09.10.2017 № 414 «О внесении изменений в отдельные административные регламенты Федеральной службы по экологическому, технологическому и атомному надзору по исполнению государственной функции по осуществлению государственного контроля (надзора) в целях приведения в соответствие с законодательством РФ о государственном контроле (надзоре)»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Административный регламент по исполнению Федеральной службой по экологическому, технологическому и атомному надзору государственной функции по федеральному государственному надзору в области использования атомной энергии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Административный регламент по исполнению Федеральной службой по экологическому, технологическому и атомному надзору государственной функции по осуществлению контроля и надзора за физической защитой ядерных установок, радиационных источников, пунктов хранения, ядерных материалов и радиоактивных веществ, за системами единого государственного учета и контроля ядерных материалов, радиоактивных веществ, радиоактивных отходов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B911-CCEB-44CF-8179-FAABB88152E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68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 изменения касаются дополнением регламентов следующими требованиями и положениями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правилах формирования и ведения единого реестра проверок (ЕРП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правлении органами государственного контроля запроса и получении документов (информации) при организации проверок, от иных органов, в распоряжении которых находятся документы (информация) необходимые для проведения проверк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 запрещении органам государственного контроля требовать от юридических лиц и индивидуальных предпринимателей документов ( информации), включая разрешительные документы, имеющиеся в распоряжении иных органов государственного контроля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запрещении органам государственного контроля требовать от юридических лиц и индивидуальных предпринимателей документов ( информации), которая была представлена ранее или находится в государственных и муниципальных информационных системах, ресурсах, регистрах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запрещении органам государственного контроля требовать от юридических лиц и индивидуальных предпринимателей документов ( информации), до начала проведения проверк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DAF5-7088-4A7F-B283-8706E07ACBF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 обязанности должностных лиц органов государственного контроля истребовать документы (информацию) необходимые при осуществлении государственного контроля от иных государственных органов, в распоряжении которых находятся указанные документы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 обязанности должностных лиц органов государственного контроля знакомить руководителя юридического лица, индивидуального предпринимателя с документами (информацией), необходимой при осуществлении государственного контроля, полученной от иных государственных органов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еправомерности должностных лиц органов государственного контроля проверять выполнение обязательных требований, если такие требования не относятся к их полномочиям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еправомерности должностных лиц органов государственного контроля проверять выполнение требований, установленных нормативными правовыми актами органов исполнительной власти СССР и РСФСР и не соответствующих законодательству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еправомерности должностных лиц органов государственного контроля проверять выполнение требований, установленных нормативными правовыми актами , не опубликованными в установленном порядке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6444-0AA1-4130-8760-05F179793A0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68360" y="764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еправомерности должностных лиц государственного контроля превышать установленные сроки проведения проверки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случае, если проведение проверки оказалось невозможным в связи с отсутствием индивидуального предпринимателя, руководителя (или иного должностного лица) юридического лица, либо в связи с фактическим неосуществлением деятельности или иным бездействием юридического лица, индивидуального предпринимателя повлекшим невозможность проведения проверки, должностным лицом органа государственного контроля составляется акт о невозможности проведения проверки с указанием причин невозможности ее проведения. В этом случае орган государственного контроля в течение 3 месяцев со дня составления акта о невозможности проведения проверки вправе принять решение о проведении в отношении таких индивидуальных предпринимателей и юридических лиц выездной проверки без внесения проверки в ежегодный план проверок и без предварительного уведомлени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CEB7-FF9D-45B5-A946-EC80786ED8B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197000"/>
            <a:ext cx="8362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нарушение требований УДЛ, организации несвоевременно направляют уведомление о начале работ на территории, где осуществляет свои полномочия другие межрегиональные территориальные управления (МТУ) Ростехнадзор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сутствуют разрешения на право ведения работ в области использования атомной энергии у работников должностные обязанности которых предусматривают наличие разрешений в  соответствии с требованиями УДЛ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. 2 постановления Правительства РФ от 03.03.1997 № 240, Распоряжением Государственной корпорации по атомной энергии «Росатом» от 02.10.2017 № 1-1.4/781-Р утверждены следующие перечни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перечень должностей руководящих работников объектов использования атомной энергии  (за исключением атомных станций), которые должны получать разрешения Федеральной службы по экологическому, технологическому и атомному надзору на право ведения работ в области использования атомной энерги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перечень руководящих работников подразделений, работников производственного контроля и работников, ведущих технологический процесс (оперативный персонал) объектов использования атомной энергии (за исключением атомных станций), которые должны получать разрешения Федеральной службы по экологическому, технологическому и атомному надзору на право ведения работ в области использования атомной энерги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2A99-558A-4A17-A286-FCBD4E266840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4" name="Заголовок 3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24000" y="333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рушение требований НП-067-16 (п.15, 18) «Основные правила учета и контроля радиоактивных веществ и радиоактивных отходов в организации» в части, касающейся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и Положения по учету и контролю радиоактивных веществ и радиоактивных отходов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я передачи радиоактивных веществ (РВ) в организации без проверки фактического наличия РВ в контейнере с применением приборов контроля (средств измерения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лежащего оформления документов о передаче РВ в подразделения организации должностными лицами ответственными за хранение Р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5853-9EC3-4FD5-8C38-AF70AD54FE3D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68360" y="40464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организациях создаются новые структурные подразделения (объекты), которые осуществляют заявленный вид деятельности без внесения соответствующих изменений в условия действия лиценз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организациях новых структурных подразделений осуществляющих деятельность в области использования атомной энергии, ввод в строй объектов не указанных в УДЛ требует обоснования безопасности деятельности новых структурных подразделений, объектов использования атомной энергии и внесения изменений в УДЛ в соответствии с требованиями постановления Правительства РФ от 29.03.2013 № 280 «О лицензировании деятельности в области использования атомной энергии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AB55-54B7-4847-B5CC-295E7BC151F5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F7FE-143D-4E0C-BC75-1CDBFED62548}" type="slidenum">
              <a:rPr b="1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Заголовок 2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799164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79280" y="620640"/>
            <a:ext cx="8677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уществлении деятельности в области использования атомной энергии следует учитывать, что в соответствии с распоряжением Президента РФ от 18 марта 2011 г. № 158-рп «Об организации работы по инкорпорации правовых актов СССР и РСФСР или их отдельных положений в законодательство Российской Федерации и (или) по признанию указанных актов недействующими на территории Российской Федерации» правовые акты СССР и РСФСР подлежат пересмотру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статьей 15 ФЗ-294 «О защите прав юридических лиц и индивидуальных предпринимателей при осуществлении государственного контроля (надзора) и муниципального контроля» введены ограничения по применению регулирующими органами правовых актов СССР и РСФСР при проведении контрольно-надзорных мероприят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менно, при проведении проверки должностные лица органа государственного контроля (надзора), органа муниципального контроля не вправе проверять выполнение требований, установленных нормативными правовыми актами органов исполнительной власти СССР и РСФСР и не соответствующих законодательству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288D-2842-4FE9-8B13-53BF641F861C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68360" y="141300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Ростехнадзора от 17 октября 2016 года № 421 «Об утверждении перечней правовых актов, содержащих обязательные требования, соблюдение которых оценивается при проведении мероприятий по контролю в рамках осуществления видов государственного контроля (надзора), отнесенных к компетенции Федеральной службы по экологическому, технологическому и атомному надзору» (Приложениями 2 и 3) установлены перечни правовых актов, которыми руководствуется Уральское МТУ при выполнении своих контрольно-надзорных функций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2 – Перечень актов, применяемых при осуществлении федерального государственного строительного надзор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3 - Перечень актов, применяемых при осуществлении федерального государственного надзора в области использования атомной энергии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Ростехнадзора от 17.10.2016 г. № 421 и соответствующие перечни размещены на официальном сайте Ростехнадзор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gosnadzor.r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FD19-1E88-415D-8800-2C94E7BED07C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Ростехнадзора от 23.05.2017 № 172 утвержден Раздел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Государственное регулирование безопасности при использовании атомной энергии» Пнречня нормативных правовых актов и нормативных документов, относящихся к сфере деятельности Ростехнадзора (П-01-01-2017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Ростехнадзора от 23.05.2017 г. № 172 размещены на официальном сайте Ростехнадзора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gosnadzor.ru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3FD1-B16C-4A0B-8844-EAD4EAD8A0D2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316-Ф3 от 03 июля 2016 года внесены изменения в КоАП РФ касающиеся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гчения мер административной ответственности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тношении являющихся субъектами малого и среднего предпринимательства лиц, осуществляющих предпринимательскую деятельность без образования юридического лица, и юридических лиц, а также руководителей и иных работников указанных юридических лиц, совершивших административные правонарушения в связи с выполнением организационно-распорядительных или административно-хозяйственных функций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первые совершенные административные правонарушен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тсутствии причинения вреда или угрозы причинения вреда жизни и здоровью людей, объектам животного и растительного мира, окружающей среде, объектам культурного наследия (памятникам истории и культуры) народов Российской Федерации, безопасности государства, угрозы чрезвычайных ситуаций природного и техногенного характера, а также при отсутствии имущественного ущерба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ье 9.5.1 КоАП РФ отражены изменения требований к деятельности членов саморегулируемых организаций в области инженерных изысканий, архитектурно-строительного проектирования или строительства, реконструкции, капитального ремонта объектов капитального строительства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4AF2-D74D-4758-8AD9-7B35B968E12A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от 03.07.2016 № 227-ФЗ О внесении изменений 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екс Российской Федерации об административных правонарушениях» в кодекс внесе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34 «Нарушение требований к оборудованию инженерно-техническими средствами охраны важных государственных объектов, специальных грузов, сооружений на коммуникациях, подлежащих охране войсками национальной гвардии Российской Федерации»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требований вышеуказанной статьи руководителями и должностными лицами влечет наложение административного штрафа а размере от тридцати тысяч до пятидесяти тысяч рубле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олжностным лицам уполномоченным составлять протоколы об административных правонарушениях вышеуказанной статьи, отнесены должностные лица органов, осуществляющих федеральный государственный надзор в области использования атомной энерг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олжностным лицам уполномоченным рассматривать дела об административных правонарушениях вышеуказанной статьи, отнесены судьи районных суд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DE30-C8D6-4FEF-A68A-CBA8D13327B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изменения в Федеральный закон № 294-ФЗ от 26 декабря 2008 года касающиеся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и проведение мероприятий, направленных на профилактику нарушений обязательных требований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я предостережения о недопустимости нарушения обязательных требований в соответствии с Постановлением Правительства РФ от 10 февраля 2017 года № 166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и проведение мероприятий по контролю без взаимодействия с юридическими лицами, индивидуальными предпринимателям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использования при проведении плановой проверки должностным лицом органа государственного контроля (надзора) проверочных листов (списков контрольных вопросов)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проведения внеплановой проверки юридического лица, индивидуального предпринимателя для предоставления правового статуса, специального разрешения (лицензии), выдачи разрешения (согласования)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нного представления должностного лица органа государственного контроля (надзора) по результатам анализа результатов мероприятий по контролю без взаимодействия с юридическими лицам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3ABF-739E-4561-BDE6-2D6448175C86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Заголовок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08000" y="188640"/>
            <a:ext cx="8928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й и заявлений, которые могут являться основанием для проведения внеплановой проверк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роведения выездной проверки по факту установления признаков нарушения обязательных требований при проведении документарной проверк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я акта о невозможности проведения соответствующей проверки с указанием причин невозможности ее проведения в случае, если проведение плановой или внеплановой выездной проверки оказалось невозможным в связи с отсутствием руководителя или иного должностного лица юридического лица, либо в связи с фактическим неосуществлением деятельности юридическим лицом, либо в связи с иными действиями (бездействием) руководителя или иного должностного лица юридического лица, повлекшими невозможность проведения проверк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ей организации и проведения в 2016-2018 годах плановых проверок при осуществлении государственного контроля (надзора) и муниципального контроля в отношении субъектов малого предпринимательства, но следует обратить внимание на то, что положения статьи 26.1 Федерального закона № 294-ФЗ от 26.12.2008 при организации федерального государственного надзора в области использования атомной энергии не применяютс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, при планировании проверок Уральское МТУ про надзору за ЯРБ Ростехнадзора ориентируется не на категории малого или среднего бизнеса, а на потенциальную опасность объектов использования атомной энергии и выполняемых организациями рабо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B142-F6E6-40A7-8749-8A0DC9FFDFFB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9:18:29Z</dcterms:created>
  <dc:creator>Асатова Наиля Наилевна</dc:creator>
  <dc:description/>
  <dc:language>en-US</dc:language>
  <cp:lastModifiedBy>Стенина Светлана Николаевна</cp:lastModifiedBy>
  <cp:lastPrinted>2017-11-29T08:59:52Z</cp:lastPrinted>
  <dcterms:modified xsi:type="dcterms:W3CDTF">2017-11-29T09:09:31Z</dcterms:modified>
  <cp:revision>129</cp:revision>
  <dc:subject/>
  <dc:title>Федеральная служба по экологическому, технологическому и атомному надзору   Уральское МТУ по надзору за ЯРБ Ростехнадзора</dc:title>
</cp:coreProperties>
</file>